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123-CF6C-49B3-AF33-618C4FB9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125A-7ECF-477D-800A-D1025CB2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7EB2-A23C-4547-ABE0-43760B3C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6AAC-517A-40B0-9549-CE1DF173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96C7D-065D-4782-98BC-803FCB60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5FF93-1776-4B76-A76D-874B5B6C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E9D06-6AF2-4DEB-B148-7FB84DCD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0689E-EDD9-4692-A10E-2D6BA08B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94720-592E-4E62-A82B-7DCC4FEB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28C38-2DAB-4408-825B-72145AD0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00A1B-33A3-4882-BB1F-F8F5AD2F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7E2C-D504-4BC6-9A28-21BA063E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1A8CE-42D8-4ECD-ABDE-98C5F670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0DD63-8BE3-4618-8723-88BA5C0B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56400-2619-448A-A480-BED01B77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3CAFB-25E9-4EC0-B0C5-0007B3F4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20D0A-F87B-451F-83B0-DF852EAB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9264-875E-48A0-9247-6774E9A0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BDB5-E780-43FD-A808-89004428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6220-5EC6-4F2E-837B-5BCDE133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77D5-B78E-4E1A-8EA6-6945B429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BFE5-EFA9-4CDA-9CC3-E19896D0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8FFC-E536-43B4-BBC3-2805F6BF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2347-1DCC-4598-B8DC-3D9FEAA3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46C3-2DBB-4DCE-9A79-5A3A8D383B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C0F5-2D18-4C6A-B469-322430DC51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ebrew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s 3-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13, Lesson 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57-6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pter 3-Stay Faithfu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der Christ’s fai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holier than Mo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ch out for your brethren’s fai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have become partakers of Chr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harden your hearts as those who followed Moses d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pter 4-Rest For The Faithfu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a promise of r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we do not take heed of the word, we will not see this r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a designated “day of judgment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dilig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ord of God is fully capable of purging sin as well as levying punish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us look to our “High Priest” for guid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apter 5-Qualifications For Priesthoo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ointed by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s compassion on the stray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riest forever of the order of Melchized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fered many pray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ed obedience through suffe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apter 6-Spiritual Immaturity, The Peril Of Not Progressing, The Purpose In Chri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of you ought to be teachers but are still ba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not ready for the solid food of th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necessary to lay a foundation of repen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impossible for those who are still in sin to taste gl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have the avenue of forgiven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pter 6-(Cont’d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have a higher purpose in l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w diligence to the ca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become sluggish in your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trust God’s promi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hope is an anchor for our so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ist is the ultimate exam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is our High Pri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fore, do not disappoint Him in turning away from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lose ho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the avenue of repentance and forgive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our only real hope of salv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01:28:05Z</dcterms:created>
  <dc:creator>Tab L. Vines</dc:creator>
  <dc:description/>
  <dc:language>en-US</dc:language>
  <cp:lastModifiedBy>Frank D Vines</cp:lastModifiedBy>
  <dcterms:modified xsi:type="dcterms:W3CDTF">2007-05-06T03:33:05Z</dcterms:modified>
  <cp:revision>7</cp:revision>
  <dc:subject/>
  <dc:title>Hebrews </dc:title>
</cp:coreProperties>
</file>